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ABC-C47A-4B22-AFDE-51CFB04B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B69-7DDE-4E67-BF4B-6EA308C1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C32-CAD3-4324-9464-95AB16D5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B1E-E80E-4938-93DA-CEA537C9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56D2-CFD2-4C78-B9CD-8382A130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FCB9-82E4-426A-822F-A1FD45EF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CE11-0522-4946-BDA3-17C811F7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BE6B-01C1-409E-B6C3-B99EFF8F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C119-23D9-4125-8555-C4B2680D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1AE6-8855-4FF9-B5E1-075F3959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7DDC-25B3-4F5A-AF74-00583B1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FF5-877E-49FF-8B6E-9CD41134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F357-4CD0-4489-ACE2-4552303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CFCF-8051-43F3-9F85-AFDF9045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7D24-B832-42F6-8F63-8B7F2864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2849-B6D3-440C-9B6A-DAAE411A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ED66-FAB2-4C51-873D-0DCEAC86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168-5BB3-4B84-987D-AF03BA6F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0B0-6A3C-47C0-9BD5-7ED27BA1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721-2C3C-4F9C-8B62-C2A1F589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825-807F-470D-972D-AEA13E7B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BBA-86CE-4442-A2DD-BF7A97BA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13B-FE7D-4092-AF4F-22D1E48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8C5-4A2E-4EA5-BE45-150E377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C5C4-13C9-4E8A-9FD1-C766C1866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0F32-8DA7-4F4F-8ABD-6DCF25B58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should look like the follow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4" descr="shots"/>
          <p:cNvPicPr/>
          <p:nvPr/>
        </p:nvPicPr>
        <p:blipFill>
          <a:blip r:embed="rId1"/>
          <a:stretch/>
        </p:blipFill>
        <p:spPr>
          <a:xfrm>
            <a:off x="457200" y="2514600"/>
            <a:ext cx="2476440" cy="37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pan - (after a storyboard from Fight Club)"/>
          <p:cNvPicPr/>
          <p:nvPr/>
        </p:nvPicPr>
        <p:blipFill>
          <a:blip r:embed="rId2"/>
          <a:stretch/>
        </p:blipFill>
        <p:spPr>
          <a:xfrm>
            <a:off x="3276720" y="2590920"/>
            <a:ext cx="288612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http://storyboard.cfms.uct.ac.za/images/car_stick.jpg"/>
          <p:cNvPicPr/>
          <p:nvPr/>
        </p:nvPicPr>
        <p:blipFill>
          <a:blip r:embed="rId3"/>
          <a:stretch/>
        </p:blipFill>
        <p:spPr>
          <a:xfrm>
            <a:off x="6781680" y="2666880"/>
            <a:ext cx="1924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09T19:04:18Z</dcterms:modified>
  <cp:revision>86</cp:revision>
  <dc:subject/>
  <dc:title>Legacy Life Skills</dc:title>
</cp:coreProperties>
</file>